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509-BD5A-4A4E-823D-B862D4DE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1A6-37FF-4028-BFF2-F4F1E056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96F-8DAA-4724-8B53-31F823BA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F3A-2B5D-42F5-B31E-2E1B5A9E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780F-B176-4280-90C2-274B4197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3806-23F1-4543-A66D-ED1CD48C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00E5-B075-4AD1-9085-5856449D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21B2-463F-4ABD-8DE7-3468AB5D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82F2-822F-40D2-9711-5340E5C0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C11A-777C-4905-BCCC-EFEFB2E4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5269-F08F-4E22-8FF1-0A6BEF5B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ADF-FE88-4C3B-8CF4-2B6B2DD6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B77A-6CB7-4404-B610-4886F78A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41F5-9995-4E03-89A2-719E94A6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50CA-A6FE-4387-A617-CFBA5B9D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0224-CBED-4F9B-813C-394CE940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A784-C2C7-46A6-9075-F55B3BC4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06026-C91D-4446-85D7-ED4AF17D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B8279-787A-493D-9E56-A48D3FD3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1A576-103F-4E01-ACF5-DF70881A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C2B3F-CE83-4E1D-B698-65C15798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9A76B-D616-4CF7-8E69-FC43C2B2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347-1F73-4D30-B4AF-A6D9CF98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83E43-74A4-4655-81ED-5613E770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709CF-00AE-44D8-BE12-3C9A93D4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D4205-A17D-4480-AC16-5413CCB0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65881-733E-4FCB-95F1-FC015C65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9B78-193E-4742-B66F-E3B373B4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1E9F3-1277-4816-A156-24FF41E7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A72C4-ED09-44DC-8825-F478424B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F2798-A4A4-4D9B-BD1D-FD02DC84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48DAD-63B3-4980-880E-EC08CAD0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ACD7F-BF94-467A-8988-7CDB0E1A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A37-2CF5-4BDF-B04E-46D642E4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5E5B4-9A1E-41CE-B026-A2A80AEE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66E5E-B978-4A35-B5ED-C897F109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CDF3A-9ECF-4385-90AE-E0DC2FA3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B9724-FAE4-4DC2-BE08-25300FEA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35F28-F228-425F-BC2D-BB3AC309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3A63C-19AD-4433-BC17-4E485306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156D0-1EFC-404E-9BFE-7C8F52DD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D21A9-42CE-44A2-A529-5120136B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36A2F-467B-4494-BC24-D6E91A5D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48E5F-BD52-4DFA-8798-159FF86C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227-2573-4D59-A6D5-20A8DA9E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8E7A2-51D6-4F8E-A2DC-DDB95176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BC9AF-11D1-4E06-BCF1-F5041DBF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F7FD2-8184-4655-A993-3D43F928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F9930-B199-4835-B459-B29AE94C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66AE3-94CB-43C0-9B95-A726E913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59898-3201-4DE4-AEB6-CF9F9FBC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B7D08-75AA-406F-B233-DE511924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82C68-5D21-427A-BE42-2513AE23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854B5-8D05-41EA-9AA8-FB43554B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05732-24C2-4C55-AB35-798DE91A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44A-4261-4C04-84F6-7CEF6FAC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F2043-FD8A-4F2E-892D-1E0BCB6F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4C012-4B1C-4114-BD3C-50B1FF81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ABD88-2EC4-4178-8CD1-C3B0962C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FDD78-E5AE-4876-A159-8810C594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4E471-787A-4F33-8B4B-3D68A2E7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0E069-FB7E-4681-93D6-5BFE46CC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6A046-D550-48BD-BE56-6E12A7E6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CF684-BA8A-48BF-8905-DEFFF191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A90A3-16A1-4348-9176-CCC7575D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FE280-3266-4CC6-B5FD-69109D46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E5D-E3E9-4B73-A2E7-6D74385B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C8D92-893C-4350-BD32-DD8DC80B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ACEB6-D689-4E2E-BC70-01515804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C3B62-F112-4770-A9FD-C277D512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59B-493E-4E2D-9B59-0264FA6E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7B0-197C-49C3-AC39-CFD4540C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BE66-24CC-48B7-99B0-38E51649465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1FEB-0AFE-403B-AE16-D3DA3A01029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0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3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9A7A-9440-4259-9A21-CC4BFA611C0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60F2-51DA-400B-A37F-B8B9F9F4EA6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93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3E09-F28E-4FB0-AF71-4C8D4A610A9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38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734A-DBB6-43A9-B4E8-757E3C13F7F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ТЕМА: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ФИНАНСЫ НЕДВИЖИМОСТИ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Авансовый аннуит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619280" y="2421000"/>
          <a:ext cx="6192720" cy="25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421000"/>
                    <a:ext cx="619272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РАВНЫМИ ДОЛЕВЫМИ ВЗНОСАМ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68360" y="1773360"/>
          <a:ext cx="8153280" cy="425448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АВНЫМИ ЧАСТЯМ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68360" y="1828800"/>
          <a:ext cx="8218440" cy="4370400"/>
        </p:xfrm>
        <a:graphic>
          <a:graphicData uri="http://schemas.openxmlformats.org/drawingml/2006/table">
            <a:tbl>
              <a:tblPr/>
              <a:tblGrid>
                <a:gridCol w="863640"/>
                <a:gridCol w="1655640"/>
                <a:gridCol w="1800360"/>
                <a:gridCol w="2255760"/>
                <a:gridCol w="16430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ЕГРЕССИВНАЯ СХ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3520" y="1828800"/>
          <a:ext cx="8153280" cy="411480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ОГРЕССИВНАЯ СХ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33520" y="1828800"/>
          <a:ext cx="8153280" cy="411480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Методы оценки, используемые при определении размера залога по ссуд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капитализированных доходо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реальной стоимости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сопоставительной стоимости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ПРОС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786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Инвестиции в недвижимость. Принятие решений по инвестициям в недвижимость и модели инвестиционных расче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нвестиции в недвижим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вокупность затрат материальных, трудовых и денежных ресурсов, направленных на расширенное воспроизводство основных фондов с определенной цел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Возможные цели инвестирова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величение доход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величение капита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хранение капита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монетарные цели (укрепление имиджа фирмы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принятии решения по инвестициям в недвижимость необходимо учитывать следующее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это долгосрочное отвлечение денежных средств из обор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я предполагает отвлечение из оборота значительных сум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квидность недвижимости низка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и – это альтернатива существующе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сквин В.А. Кредитование инвестиционных проектов: Рекомендации для предприятий и коммерческих банков – М.: Финансы и статистика, 2003 – 204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вижимость/Эл. учебное пособие. – М.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D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200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альцман. А.И. Оценка инвестиционных проектов и предприятий – М.: Инфра- М,  2004 – 156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жораев В.О. Экономическая оценка инвестиций. Электронное учебное пособие.- Оренбург, ОГАУ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Основные этапы принятия решений по инвестиция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тановка пробл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ение це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бор вариантов решения пробл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ценка вариа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бор одного варианта из нескольких альтернатив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одели расчетов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Статическ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затра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прибы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рентабель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срока окупаем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еимущества и недостатки статических моделей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еимуществ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сты для использова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требуют больших затрат на сбор и обработку дан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достатк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учитывается временная структура поступлений и выпла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всегда обеспечивается сопоставимость инвестиционных альтернати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равнительная смета затра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 на приобретение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службы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оянн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менн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е годов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3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равнительный анализ прибыл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е годов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3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зводительность установки, ед. в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реализация, руб. за е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 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ручка от реализаци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1.6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4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быль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равнительный анализ рентабельности и срока окупаемост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57200" y="1844640"/>
          <a:ext cx="8229600" cy="43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 на приобретение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быль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ортизация, 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нтабельность, в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окупаемости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Динамические модели расчетов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Метод основанный на стоимости капитала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Метод аннуитет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Подробно будут изучены в разделе «доходные методы оценки объектов недвижимости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редлагаемом примере рассматриваются как особые случаи общих динамических моделей, как концептуальные подх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цепция неполного финансового плана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ТЫС. РУБ.)</a:t>
            </a:r>
            <a:br>
              <a:rPr sz="2000"/>
            </a:b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95280" y="1268280"/>
          <a:ext cx="8089920" cy="5197680"/>
        </p:xfrm>
        <a:graphic>
          <a:graphicData uri="http://schemas.openxmlformats.org/drawingml/2006/table">
            <a:tbl>
              <a:tblPr/>
              <a:tblGrid>
                <a:gridCol w="2027160"/>
                <a:gridCol w="935280"/>
                <a:gridCol w="936360"/>
                <a:gridCol w="1079640"/>
                <a:gridCol w="1081080"/>
                <a:gridCol w="1079640"/>
                <a:gridCol w="950760"/>
              </a:tblGrid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мент време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туп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то-платеж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туп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то-платеж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едостатки данной модел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тто-платежи обездвижены, что не соответствует принципам экономической целесообраз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учитываются реальные возможности предприятия по финансированию проек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дущие денежные потоки не приведены к текущей стоимости вло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нцепция полного финансового плана на примере проекта 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3520" y="1828800"/>
          <a:ext cx="8153280" cy="4195800"/>
        </p:xfrm>
        <a:graphic>
          <a:graphicData uri="http://schemas.openxmlformats.org/drawingml/2006/table">
            <a:tbl>
              <a:tblPr/>
              <a:tblGrid>
                <a:gridCol w="2093760"/>
                <a:gridCol w="1224000"/>
                <a:gridCol w="1297080"/>
                <a:gridCol w="1224000"/>
                <a:gridCol w="1224000"/>
                <a:gridCol w="109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воначальный капитал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А , т. руб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.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едит, 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1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2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3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9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ечный капитал, 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опросы к изучени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потечный кред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вестиции в недвижимость. Принятие решений по инвестициям в недвижимость и модели инвестиционных расче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казатели экономической эффективности инвестиций в недвижим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ругие формы финансирования недвижимости. Девелоп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рахование недвижим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едостатки модел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возможно устранить субъективный фактор при выборе вариантов дополнительных инвестиционных проек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дущая стоимость не приведена в соответствие с текущей стоим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прос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оказатели экономической     эффективности инвестиций в недвижим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дготовительный этап оценк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Формируется реальный денежный поток по периодам реализации проекта, как поток поступлений и платежей по трем основным направлениям деятельно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зводственная де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инансовая де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онная дея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Выводится итоговое сальдо денежного потока по периодам реализации проекта, используемое далее в расчетах показателей эффектив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imes New Roman"/>
              </a:rPr>
              <a:t>Оценка инвестиционных проектов с учетом временного фактора основана на использовании следующих показателей: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контированный срок окупаем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тый дисконтированный доход ЧДД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V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вка доходности проекта (СДП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утренняя ставка доходности проекта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ифицированная СДП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ДП финансового менедж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сконтирование денежного пото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340000" y="1628640"/>
                <a:ext cx="460836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Тс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Д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826920" y="3716280"/>
            <a:ext cx="7777440" cy="24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, 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нозируемый (будущий) дох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ущая стоимость будущего доход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ножитель настоящей (текущей) сто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вка дисконтир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реализации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сходные данны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оимость приобретаемого оборудования – 2 млн. 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ок службы оборудования – 5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истые доходы по периодам реализации проекта составили в тыс. руб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– 4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– 10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– 12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– 160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– 18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авка дисконтирования – 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асчет срока окупаемост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1600200"/>
          <a:ext cx="8229600" cy="4729320"/>
        </p:xfrm>
        <a:graphic>
          <a:graphicData uri="http://schemas.openxmlformats.org/drawingml/2006/table">
            <a:tbl>
              <a:tblPr/>
              <a:tblGrid>
                <a:gridCol w="2314440"/>
                <a:gridCol w="936720"/>
                <a:gridCol w="934920"/>
                <a:gridCol w="1008360"/>
                <a:gridCol w="1008000"/>
                <a:gridCol w="1081080"/>
                <a:gridCol w="946080"/>
              </a:tblGrid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нежный поток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00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денежный поток (ДДП)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копленный ДДП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6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8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срок окупаемости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+ (108 : 916) = 3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Недостатки показател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 расчетах игнорируются доходы, получаемые после предполагаемого срока окупаемост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ля анализа инвестиционного портфеля предполагаются дополнительные расчет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рмула расчета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P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835280" y="3076560"/>
                <a:ext cx="5699160" cy="229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j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, Vj - входящие денежные поток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j - исходящие денежные поток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j - множитель настоящей стоимост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асчет показателя ЧДД (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PV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572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2314440"/>
                <a:gridCol w="936720"/>
                <a:gridCol w="934920"/>
                <a:gridCol w="1008360"/>
                <a:gridCol w="1008000"/>
                <a:gridCol w="1081080"/>
                <a:gridCol w="946080"/>
              </a:tblGrid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нежный поток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00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денежный поток (ДДП)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рный ДДП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 + 756 + 788 + 916 + 894 = 37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тый дисконтированный доход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02 – 2000 = 1702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gt;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опрос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ПОТЕЧНЫЙ КРЕД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едостатки показателя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P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бсолютное знач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 сравнительном анализе проектов не учитывает объема вложений по каждому проект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результаты существенное влияние оказывает применяемая ставка дисконтир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ка уровня риска проводится достаточно субъектив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Внутренняя ставка доходности – это ставка дисконтирования, приравнивающая сумму приведенных доходов от проекта к величине инвестиций</a:t>
            </a:r>
            <a:br>
              <a:rPr sz="32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837720" y="3117600"/>
            <a:ext cx="3775320" cy="221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870280" y="3357720"/>
                <a:ext cx="3002040" cy="83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лияние ставки дисконтирования на ЧДД (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PV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819520"/>
                <a:gridCol w="1079280"/>
                <a:gridCol w="1152720"/>
                <a:gridCol w="1079280"/>
                <a:gridCol w="1079640"/>
                <a:gridCol w="101916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вка дисконтирования,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ДД 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PV)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тыс.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рный приведенный поток, тыс.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Расчет внутренней ставки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доходност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      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0       5+Х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88       4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– 2000          5 – (5+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 = 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– 1788            5 – 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= 37,4        ВСДП= 5+37,4 = 42,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тавка доходности проект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ыбор оптимального проекта основан на оценке эффективности единицы затрат, что позволяет сравнивать проекты, различающиеся по величине затрат и доход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 примеру искомый проек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70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ДП=  -------- = 1,8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льтернативный проек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9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ДП2= --------- = 1,6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едостаток:  зависимость результата расчета от избранной ставки дисконтиро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Модифицированная ставка доходност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и в проект предполагается осуществлять поэтапно, и временно свободные денежные средства размещены в иных проектах, сроки окупаемости которых совпадают с началом нового этапа финансирования искомого проек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сконтирование этих потоков осуществляется по безопасной ликвидной ставк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кущая стоимость проекта рассчитывается с учетом этих денежных пото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тавка доходности финансового менеджмент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полагается, что все высвобождаемые в ходе реализации инвестиционного проекта денежные средства направляются на финансирование новых инвестиционных проектов исходя из политики предприятия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оценке проекта в целом рассчитывают среднюю или, так называемую, «круговую» ставку доходности будущих инвести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Вопрос 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353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РУГИЕ ФОРМЫ ФИНАНСИРОВАНИЯ НЕДВИЖИМ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ЕВЕЛОП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ДЕВЕЛОПМЕН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Деятельность, связанная с развитием территории, включающая подготовку земель и проведение строительных, инженерных  и иных операций с недвижимостью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Девелопмент, как управление инвестиционным проектом включает в себ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бор экономически эффективного про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лучение всех необходимых разрешений на его реализацию от органов вла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ределение условий привлечения инвестиций, разработка механизмов и форм их возвра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иск и привлечение инвестор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бор подрядчиков, финансирование их деятельности и контроль за их работо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еализация созданного объекта недвижимости или передача его в эксплуотаци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акторы, определяющие ипотечный кред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рок действ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цель финансирова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ид обеспечения кредита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 строительстве – целевое использование средст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оценка стоимости (размер кредита зависит от стоимости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евелопер и его функции по реализаци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Девелопер – тот, кто организует создание объекта в наилучшем месте таким образом, что позволяет вернуть инвестированные в него ресурсы и получить прибыль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Функции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пределение возможности реализации проекта развития недвижимост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пределение условий осуществления проекта и разработка бизнес-плана его реализаци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Реализация проекта развития недвижиомст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пределение возможности реализации проекта развития недвижимости предполагает изучени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тенденции экономического развит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остояние налоговой и финансовой систем региона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едложение и спрос на недвижимость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озможного и наиболее выгодного места реализации проект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пределение условий осуществления проекта и разработка бизнес-плана его реализации предполагае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Определение физических возможностей реализации проекта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Определение затрат на реализацию проекта и возможных источников финансирования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олучение разрешения госорганов и подготовка позитивного мнения общественност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роведение переговоров с собственником земли, согласование условий перехода земли под застройку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Реализация проекта предполагает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влечение финансовых ресурсо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влечение подрядных проектных и строительных организаций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Организация финансирования строительства и контроль за его ходом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одажа (передача) объекта в эксплуатацию, возврат вложенных средств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РУГИЕ ФОРМЫ ФИНАНСИРОВ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ПРОДАЖА В РАССРОЧКУ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ЮНИТИЗАЦИЯ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- РАЗДЕЛЕНИЕ СОБСТВЕННОСТИ НА МНОЖЕСТВО ДОЛЕЙ И ПОЛУЧЕНИЕ ПРИБЫЛЕЙ ОТ ВЛАДЕНИЯ ЕДИНИЦЕЙ СОБСТВЕННОСТ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СЕКЬЮРИТИЗАЦИЯ-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ЫПУСК ОБЛИГАЦИЙ КАКОЙ ТО КОМПАНИЕЙ ИЛИ РАСПРЕДЕЛЕНИЕ ДОЛЕЙ В ПОРТФЕЛЕ ЦЕННЫХ БУМАГ ПАЕВОГО ТРЕСТ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ИМЕР ТАКИХ ЦЕННЫХ БУМА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СЕРТИФИКАТ ДОХОДА НА НЕДВИЖИМОСТЬ (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INC) –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ЕЛИКОБРИТА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ИНВЕСТОР ИЗВЛЕКАЕТ ВЫГОДУ В ФОРМЕ ЧАСТИ ОТ ДОХОДА И ПРИРОСТА КАПИТАЛЬНОЙ СТОИМОСТИ НЕДВИЖИМО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ИНВЕСТОР НЕ СТАНОВИТСЯ СОБСТВЕННИКОМ НЕДВИЖИОМ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INC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НЕ ОБЛАГАЕТСЯ ПОДОХОДНЫМ НАЛОГОМ И НАЛОГОМ НА ПРИРОСТ КАПИТАЛЬНОЙ СТОИМО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речень обстоятельств, от наступления которых традиционно страхуется недвижимое имущест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Землетрясение, оползень, обвал, буря, ураган, наводнение, град, ливень, затопление, оседание почвы, морозы и снегопады, необычные для данной местности, действие подпочвенных вод, удар молни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жар, взрыв, технические аварии, техногенные аварии и катастрофы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оникновение воды из соседнего помещения, повреждение имущества водой из водопроводных, канализационных и противопожарных систем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еправомерные действия третьих лиц, кража со взлом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ущественные условия договора страхования недвижимост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имущество, являющееся объектом страхова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характер события, на случай наступления которого осуществляется страхование (страхового случая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размер страховой суммы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срок действия договор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траховое свидетельство должно содержать следующие данные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15364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именование докумен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именование, юридический адрес и банковские реквизиты страховщ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фамилию, имя, отчество или наименование страхователя и его адре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казание объекта страх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мер страховой су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казание страхового риска (риск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мер страхового взноса, сроки и порядок внесения страховых прем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рок действия дого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рядок изменения и прекращения дого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дписи стор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язанности страховщи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знакомить страхователя с правилами страх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случае проведения страхователем мероприятий, уменьшивших риск наступления страхового случая и размер возможного ущерба застрахованному недвижимому имуществу, либо в случае увеличения его действительной стоимости перезаключить по заявлению страхователя договор страхования с учетом этих обстоятельст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и наступлении страхового случая выплатить страховое возмещение в установленный договором или законом ср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озместить расходы, которые понес страхователь при наступлении страхового случая для предотвращения или уменьшения ущерба застрахованному имуществу, если возмещение таких расходов предусмотрено правилами страх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е разглашать сведения о страхователе и его имущественном положении, за исключением случаев, предусмотренных законодательств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арианты определения процента  и способы погашения креди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- соглашение о твердом проценте на весь срок действия (банк должен получить рефинансирование на твердых условиях)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- соглашение о переменном проценте. Для клиента появляется возможность удешевления финансирования. Для банка преимущество - условия процента могут быть согласованы с издержками на рефинансировани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язанности страховател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воевременно вносить страховые взнос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и заключении договора страхования сообщить страховщику о всех известных ему обстоятельствах, имеющих значение для оценки страхового риска, а также о всех заключенных или заключаемых договорах страхования в отношении данного объекта страх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инимать необходимые меры для предотвращения и уменьшения ущерба застрахованному недвижимому имуществу при наступлении случая и сообщить страховщику о наступлении страхового случая в сроки и согласованной форме, установленные договором страхо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снования для отказа страховщика произвести страховую выплат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умышленные действия страхователя, которыми вызывается наступление страхового случая или умышленное преступление, находящегося в прямой причинной связи со страховым случае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Законом могут быть предусмотрены случаи освобождения страховщика от выплаты страхового возмещения при наступлении страхового случая вследствие грубой неосторожности страховател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сообщение страхователем страховщику заведомо ложных сведений об объекте страх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получение страхователем соответствующего возмещения ущерба по имущественному, страхованию от лица, виновного в причинении этого ущерб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153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оговор страхования прекращается в случаях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153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течения срока действ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олнения страховщиком обязательств перед страхователем договора в полном объе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уплаты страхователем страховых взносов в установленные договором сро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иквидации страховщ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нятия судом решения о признании договора страхования недействительн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других случаях, предусмотренных законодатель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ЕЗЮМ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ипотечный кредит и его основные характеристик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статические и динамические модели расчетов при принятии решения о выборе варианта реализации про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Рассмотрены основные показатели экономической эффективности инвестиционных проек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инструменты используемые для финансирования недвижим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Дано определение и показаны основные этапы девелопмен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ХЕМЫ ПОГАШ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АВНЫМИ ЧАСТЯМИ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АВНЫМИ ДОЛЕВЫМИ ВЗНОСАМИ (АННУИТЕТ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ЕГРЕССИВНАЯ СХЕМА ПОГАШЕ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ПРОГРЕССИВНА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53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АННУИТЕТНЫЕ ПЛАТЕЖ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ОЗВРАТ ДЕНЕЖНЫХ СРЕДСТВ В ВИДЕ СЕРИИ РАВНОВЕЛИКИХ ПЛАТЕЖЕЙ, ВКЛЮЧАЮЩИХ СУММУ ПОГАШЕНИЯ И ПРОЦЕНТОВ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ычный аннуит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692360" y="2421000"/>
          <a:ext cx="568800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68800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06:54:47Z</dcterms:created>
  <dc:creator>Джораев</dc:creator>
  <dc:description/>
  <dc:language>en-US</dc:language>
  <cp:lastModifiedBy>Джораев В.О.</cp:lastModifiedBy>
  <dcterms:modified xsi:type="dcterms:W3CDTF">2007-02-09T18:30:20Z</dcterms:modified>
  <cp:revision>22</cp:revision>
  <dc:subject/>
  <dc:title>ТЕМА: ФИНАНСОВЫЕ АСПЕКТЫ НЕДВИЖИМОСТИ</dc:title>
</cp:coreProperties>
</file>